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78D-C7F2-49F0-AC9F-806F0845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8F8-FF9D-4B09-B059-61753A37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AE0-CD19-4729-8724-65A517B9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E35-14C8-43A8-BC34-409CC82E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F481-5920-4809-AE18-0BA0E1B3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0F7C-995B-444E-92E5-D44027E0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8365-D740-465D-89A7-31648AF6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A945-C6C4-4E1D-96BA-2D819D4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9651-7191-4B69-A8AE-1B6295BB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BB33-E1C5-426F-BAFF-38AC9589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9B45-54C6-47FC-8EA6-D95E50AE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58E-ABD7-4F55-A498-25959C3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16A8-03CD-4E21-948E-E8ACEE6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2630-1B06-4983-8D3C-3BFD3068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6A5A-E181-46B2-A36F-66FA089D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7941-6302-4D23-8A52-3C55ACFC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154F-E764-4891-8576-6F97F5AC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CE0-BA14-4374-A42E-B7196C97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43B-74B6-4DAB-AEDF-D1CBCFEB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DFD-97EC-4D32-888E-EE742B3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215-ECEB-4611-BA46-D605297B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277-4086-4BA2-A02D-B54F1D7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BBC-045B-433F-8C52-DBD7437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EA0-CBB7-4F0B-A39C-589888F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322-4AA2-4B78-BB71-E7D8D75E23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97F3-E43A-4E91-8EA4-03C5E1995F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87;&#1088;&#1080;&#1084;&#1077;&#1088;&#1099;%20&#1073;&#1072;&#1088;&#1100;&#1077;&#1088;&#1086;&#1074;%20&#1074;%20&#1086;&#1073;&#1097;&#1077;&#1085;&#1080;&#1080;&amp;spsite=fake-005-870270.ru&amp;img_url=narodna.pravda.com.ua%2Fimages%2Fdoc%2F07389-picture1.jpg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Барьеры общ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берите у меня все, чем я обладаю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оставьте мне мою речь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скоро я обрету все, что име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аниэл Уэбс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ное социальное положение партнеров …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репятствовать общению, если один из них привык испытывать трепет перед начальств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отрицательных эмоций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общении с расстроенным челове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im7-tub.yandex.net/i?id=92133543&amp;tov=7"/>
          <p:cNvPicPr/>
          <p:nvPr/>
        </p:nvPicPr>
        <p:blipFill>
          <a:blip r:embed="rId1"/>
          <a:stretch/>
        </p:blipFill>
        <p:spPr>
          <a:xfrm>
            <a:off x="5148360" y="3699000"/>
            <a:ext cx="3744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здоровья челове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ям не составляет большого труда по внешним признакам догадаться о том, что происходит с человеком, выбрать соответствующий тон, слова или сократить время общения, чтобы не утомлять собеседника, которому нездоровит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сихологическая защит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а желанием собеседника защититься от в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Grafik 4" descr="heidelberg.jpg"/>
          <p:cNvPicPr/>
          <p:nvPr/>
        </p:nvPicPr>
        <p:blipFill>
          <a:blip r:embed="rId1"/>
          <a:stretch/>
        </p:blipFill>
        <p:spPr>
          <a:xfrm>
            <a:off x="4716360" y="3573360"/>
            <a:ext cx="39592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установки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когда деловой партнер обладает негативной установкой по отношению к вам или к фирме, представителем которой вы являетес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двойни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том, что мы невольно судим о каждом человеке по себе, ждем от делового партнера такого поступка, какой совершили бы на его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ммуникативные барьеры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антический барь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выражать свои мыс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ая техника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слуша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модальност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характер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550872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антический барьер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бое слово имеет обычно не одно, а несколько значени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мысловые» поля у разных людей разны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пользуются жаргонные слова, тайные языки, часто употребляемые в какой-либо группе образы, прим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выражать свои мысли (логический барьер) ..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 возникает, если человек, с нашей точки зрения, говорит или делает что-то в противоречии с правилами логики; тогда мы не только отказываемся его понимать, но и эмоционально воспринимаем его слова отрицатель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7" descr="http://im2-tub.yandex.net/i?id=153384587&amp;tov=2"/>
          <p:cNvPicPr/>
          <p:nvPr/>
        </p:nvPicPr>
        <p:blipFill>
          <a:blip r:embed="rId1"/>
          <a:stretch/>
        </p:blipFill>
        <p:spPr>
          <a:xfrm>
            <a:off x="615636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охая техника речи (фонетический барьер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на иностранном язык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 большое число иностранных слов или специальную терминологию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быстро, невнятно и с акце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евыразительная речь, речь-скороговорка, звуки-паразиты, дефект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Барьер" общения – эт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передачи информации между партнерами по общен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4249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слуша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является в том, что партнер перебивает, начинает говорить о своем или уходит в собственные мысли и вовсе не реагирует на ваши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9" descr="http://proletarism.org/images/1_33.gif"/>
          <p:cNvPicPr/>
          <p:nvPr/>
        </p:nvPicPr>
        <p:blipFill>
          <a:blip r:embed="rId1"/>
          <a:stretch/>
        </p:blipFill>
        <p:spPr>
          <a:xfrm>
            <a:off x="6361200" y="3714840"/>
            <a:ext cx="21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модальносте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человек не задумывается о приоритетном канале восприятия информ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TheSimpsons"/>
          <p:cNvPicPr/>
          <p:nvPr/>
        </p:nvPicPr>
        <p:blipFill>
          <a:blip r:embed="rId1"/>
          <a:stretch/>
        </p:blipFill>
        <p:spPr>
          <a:xfrm>
            <a:off x="5364000" y="3860640"/>
            <a:ext cx="3529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характер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и с ярко выраженными особенностями темперамента могут быть неудобными собеседни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вежливость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тот барьер, который мешает и правильно воспринимать партнера, и понимать, что он говорит, и взаимодействовать с 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процессе делового общения различают следующие «барьеры»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вторитет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избегание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понимани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i-main-pic" descr="Картинка 198 из 758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авторитет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елив всех людей на авторитетных и неавторитетных, человек доверяет только первым и отказывает в доверии други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-main-pic" descr="Картинка 129 из 64000"/>
          <p:cNvPicPr/>
          <p:nvPr/>
        </p:nvPicPr>
        <p:blipFill>
          <a:blip r:embed="rId1"/>
          <a:stretch/>
        </p:blipFill>
        <p:spPr>
          <a:xfrm>
            <a:off x="5940360" y="3716280"/>
            <a:ext cx="261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тнесение человека к авторитетным зависит от следующих факторо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ого положения (стату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р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ельного внешне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избегани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избегает источников воздействия, уклоняется от контакта с собеседни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о, что чаще всего барьер обусловлен той или иной степенью невни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влечь внимание можно при использован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нейтральной фразы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авлеч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рительного контак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«непонимани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точник информации заслуживает доверия, авторитетен, однако информация «не доходит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-main-pic" descr="Картинка 385 из 64000"/>
          <p:cNvPicPr/>
          <p:nvPr/>
        </p:nvPicPr>
        <p:blipFill>
          <a:blip r:embed="rId1"/>
          <a:stretch/>
        </p:blipFill>
        <p:spPr>
          <a:xfrm>
            <a:off x="2556000" y="3429000"/>
            <a:ext cx="3552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ши типичные ошиб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ые ожидания в отношении партн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м кажется, что партнер должен догадываться о том, что мы чувству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улавливаем подтекст разгов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сли поведение человека нам неприятно, нам кажется, что он плохо к нам относится или даже делает это нам назл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ы стараемся оправдать ожидания собеседни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ы взаимодействия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онны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тилей общ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некомпетент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 какому типу собеседников относитесь в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А (видеть): 1, 5, 8, 10, 12, 14, 19, 21, 23, 27, 31, 32, 39, 40, 42,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В (ощущать): 3, 4, 9, 11, 16, 18, 22, 25, 28, 29, 30, 35, 38, 41, 44, 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С (слышать): 2, 6, 7, 13, 15, 17, 20, 24, 26, 33, 34, 36, 37, 43, 46, 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тивационны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если у партнеров разные мотивы вступления в конта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один заинтересован в развитии общего дела, а другого интересует только немедленная прибы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ически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взаимодействию с партнером мешает его нравственная позиция, несовместимая с ва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395280" y="393372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стилей общения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т от темперамента, характера, мировоззрения и формируется под влиянием воспитания, окружения, профе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10" descr="http://im3-tub.yandex.net/i?id=15373640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824280"/>
            <a:ext cx="34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некомпетентности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некомпетентность партнера вызывает чувство досады, ощущение потерянного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ы восприятия и понимания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е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е социальное поло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отрицательных эмоц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остояние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ая защи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установ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двой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roe-iz-prostokvashino-pir-2"/>
          <p:cNvPicPr/>
          <p:nvPr/>
        </p:nvPicPr>
        <p:blipFill>
          <a:blip r:embed="rId1"/>
          <a:stretch/>
        </p:blipFill>
        <p:spPr>
          <a:xfrm>
            <a:off x="5651640" y="4005360"/>
            <a:ext cx="3166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етический барьер 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партнер неопрятно, неряшливо одет или обстановка в его кабинете, вид рабочего стола не располагают к бесед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im2-tub.yandex.net/i?id=441345&amp;tov=2"/>
          <p:cNvPicPr/>
          <p:nvPr/>
        </p:nvPicPr>
        <p:blipFill>
          <a:blip r:embed="rId1"/>
          <a:stretch/>
        </p:blipFill>
        <p:spPr>
          <a:xfrm>
            <a:off x="3995640" y="429264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5:44:03Z</dcterms:created>
  <dc:creator>Admin</dc:creator>
  <dc:description/>
  <dc:language>en-US</dc:language>
  <cp:lastModifiedBy>Owner</cp:lastModifiedBy>
  <dcterms:modified xsi:type="dcterms:W3CDTF">2012-08-19T00:48:33Z</dcterms:modified>
  <cp:revision>8</cp:revision>
  <dc:subject/>
  <dc:title>Барьеры общения</dc:title>
</cp:coreProperties>
</file>